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CE3-8067-4CB3-91D9-03ACC38B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A59-5AE7-49D6-9E58-9FBDE836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435-CEF2-4A1C-B464-86203D5F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554-ED20-4312-BF47-1389C42F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BE8-78C6-4FC6-9ACB-FFC376A6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BBD-BBEE-4BEB-BAE5-828921BF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3DD-F5D7-4A35-936C-5E4277AF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8F3-1422-4079-BA3C-5B7002E7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378-EDE3-42E2-A2AF-405E927B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23A-E18C-4707-B2D3-1F7CD720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AA8-13E3-484F-81FA-06AA794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A02-B043-4510-9561-01580F5D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F27C-AFC1-4259-8465-E68297A27B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2378160"/>
            <a:ext cx="889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LES 5 PHOTOS LES PL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SPECTACULAIRES 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L’ANNÉE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8640" y="304812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1è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89000" y="3048120"/>
            <a:ext cx="15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5 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59200" y="304812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4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59200" y="304812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3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59200" y="304812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2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0:07:12Z</dcterms:created>
  <dc:creator/>
  <dc:description/>
  <dc:language>en-US</dc:language>
  <cp:lastModifiedBy>Arthur</cp:lastModifiedBy>
  <dcterms:modified xsi:type="dcterms:W3CDTF">2004-01-22T09:45:31Z</dcterms:modified>
  <cp:revision>8</cp:revision>
  <dc:subject/>
  <dc:title>As melhores fotos do ano</dc:title>
</cp:coreProperties>
</file>